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F28-68A3-49EF-806B-C73F6235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E59-C0E4-4059-8CA5-0A099DD7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2AA-5120-4B11-A602-7D87841D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68E-7572-4021-BBA7-03C76A8F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5691-0EB7-43C8-B119-4FB54FAF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C810-D696-4EAE-9801-47598B3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35C0-C86C-4299-8DB7-87BAED02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F77F-4B7F-4984-A958-7AC7012C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F03D-312B-448D-AE3D-81BE113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C50B-6EC6-4619-81D9-BD411794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0BA7-3F85-4627-9C02-0E7A099F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A87-3152-474A-9C26-6AD88CF5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4CB7-6A80-47C9-99F5-FA530DA6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232B-43AE-42FE-8B78-58AA206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AD02-68C1-42FC-83C5-97C0AE5D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FBA7-3B79-4C4F-9791-2EF492F2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4AAA-E121-45DB-8533-BB64ECB0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55E-C9C6-478B-BD11-1BAB919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DB6-90B1-43B7-9637-6BEC9802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152-3130-4264-A7B0-9E8265E3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828-D769-49D5-9180-BBC0E7EE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393-E903-4EBB-91F4-8D16144F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FC5-6233-4D19-AF41-95277FD8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A7F-934A-4311-9C84-01577DE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2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0F8F-9E24-4238-B157-7BC697665D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2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3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04AD-E1E2-48BC-BBB3-38326270452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d189"/>
                </a:solidFill>
                <a:latin typeface="Arial"/>
              </a:rPr>
              <a:t>Percent of Change Challenge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914400" y="1676520"/>
            <a:ext cx="814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 Narrow"/>
              </a:rPr>
              <a:t>CAN YOU SOLVE THESE    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 Narrow"/>
              </a:rPr>
              <a:t>PROBLEMS?  Use the formula 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 Narrow"/>
              </a:rPr>
              <a:t>that you learned today:</a:t>
            </a: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828800" y="4419720"/>
                <a:ext cx="5867280" cy="21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rigin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10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27160" y="17208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89880" y="1644480"/>
            <a:ext cx="7616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Brett Smith became a cop.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He put 1000 drug dealers in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jail his first year on the force.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He put 2500 in jail his 2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nd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 year.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What was the percent of 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04040" y="2101680"/>
            <a:ext cx="8024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Brittany Berrier became a famou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doctor.  She took out 15 gall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bladders on May 15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th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.  She took ou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30 on May 18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th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.  What is the % of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increas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214640" y="2330280"/>
            <a:ext cx="7837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Zack Cole shot an 86 on th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golf course on Monday.  On Friday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he shot a 95.  What is the % of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2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79280" y="1523880"/>
            <a:ext cx="7253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Kelly Dyer became a grea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writer.  She had a picnic each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year to celebrate the date of her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first published work.  The 1s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year 50 people came.  The 2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nd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year   30 people came.  What i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the percent of 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3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37960" y="2101680"/>
            <a:ext cx="7450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Last six weeks Joseph Lawhorn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ade an 88.  This six weeks he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ade a 92.  Please figur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the percen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of change.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4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89880" y="1949400"/>
            <a:ext cx="67827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Angela Smyre became a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famous architect.  She made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$90,000 in 2004.  In 2005 sh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ade $120,000.  What is th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percent of increas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5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53400" y="1643040"/>
            <a:ext cx="842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Amber Robinson became a foster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other, because she is so good with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children.  She took care of 8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children in 2003.  In 2004 she had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only 5.  What is the percent of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6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213200" y="2101680"/>
            <a:ext cx="80323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Jonathan Rogers drew 47 planes in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4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th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 period.  He drew 28 in 5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rial Narrow"/>
              </a:rPr>
              <a:t>th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Arial Narrow"/>
              </a:rPr>
              <a:t>period</a:t>
            </a: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.  What is the percen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of 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7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214640" y="2254320"/>
            <a:ext cx="7616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att Viers bought 42 CD’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last year.  He bought only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35 this year.  (He lost all hi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money in the stock market)  What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is the percent of chang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em # 8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37960" y="2025720"/>
            <a:ext cx="7588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Lisa LaViers became a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great singer.  She was so famous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she had 12 body guards at on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concert.  At the next concert she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had 15 body guards.  What is 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 Narrow"/>
              </a:rPr>
              <a:t>the percent of change?</a:t>
            </a:r>
            <a:endParaRPr b="0" lang="en-US" sz="4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20:17:32Z</dcterms:created>
  <dc:creator>Faye Humbard</dc:creator>
  <dc:description/>
  <dc:language>en-US</dc:language>
  <cp:lastModifiedBy>Owner</cp:lastModifiedBy>
  <dcterms:modified xsi:type="dcterms:W3CDTF">2010-10-31T22:01:18Z</dcterms:modified>
  <cp:revision>12</cp:revision>
  <dc:subject/>
  <dc:title>Percent of Change</dc:title>
</cp:coreProperties>
</file>